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D1B2-7449-4417-8E3F-7F805EAA6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9F49-DABD-4640-8B84-1151D909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1BA2-4DAF-461B-ABB9-62C743EA3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20F5-F801-440B-B909-3968EE866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BEEB-534E-4AA3-9BF3-C47E4EE6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E3F1-8BAB-4BEE-9F38-C6DD3235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E782-356F-4A8C-950B-D4D7A974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EDC9-4703-4873-9167-D00A7D82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5CFD-8945-46E6-BB4B-C9E4F4C9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BF9C-1EDC-4397-9C99-0F6AE230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01D7-E1BB-46B2-8F14-95429204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30B4-6C1F-41AE-8704-0A0880C0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82CF-8918-49CB-9C45-2F6B124CE9B0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13 Ty, spása sveta odvek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, Spása sveta odvek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ám svätý Boží Syn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ieš zbaviť srdce človek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út hriechu, jarma ví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spásna krv ho obmy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tiekla z tvojich rán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n obraz v ňom sa  zaskve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vložil doň Boh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v tebe, Láska z Golgot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droj odpustenia m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 tvojom svätom objatí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r spásy poznáv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iež srdce rosou milos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 denne zvlažené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pieseň vďačnej rados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ňom znie vždy nadšene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3T19:03:41Z</dcterms:modified>
  <cp:revision>16</cp:revision>
  <dc:subject/>
  <dc:title>Je veľký náš Pán, on slávy je Kráľ Nech do všetkých strán  spev vrúcnych znie chvál.</dc:title>
</cp:coreProperties>
</file>